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9FC-4C68-4FEE-9BED-DA1373AF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2CA-C2F8-4939-A22B-916654C7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BFD-D69C-4A00-84BE-32C3A915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14D-9E59-4084-AE30-C32EEE39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04D-1CB6-45C9-BAAA-5B8484C2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62B-CE1D-4549-9842-6E8D10AC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830-206B-44DF-A10D-A984C1A2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B6F-C682-4E89-BB01-D057D9AB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8AC-B479-4802-88F3-93C4A81F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A25-52EC-4DDE-A964-C7B16ABC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14F-B7E2-4617-ACC3-60AF73E7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A3E-7044-4A99-83F9-970D2235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CB4A-0A9A-4E5F-9801-C0F46985D2E0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089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712880" y="2779560"/>
            <a:ext cx="5205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6600" y="2249640"/>
            <a:ext cx="893772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420840" y="1231920"/>
            <a:ext cx="8650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5:26:30Z</dcterms:created>
  <dc:creator>ESTER</dc:creator>
  <dc:description/>
  <dc:language>en-US</dc:language>
  <cp:lastModifiedBy>ESTER</cp:lastModifiedBy>
  <dcterms:modified xsi:type="dcterms:W3CDTF">2012-07-12T00:10:37Z</dcterms:modified>
  <cp:revision>7</cp:revision>
  <dc:subject/>
  <dc:title>Slide 1</dc:title>
</cp:coreProperties>
</file>